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C2B-BFFC-4CF3-9CD7-57847A77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281-C2AC-4C3A-A564-259D93F6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E41-FD97-42BC-9B16-52DF8698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DBB-73F6-4B25-95D2-EA07F93D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AD40-110F-48A2-9B8D-7F7E0402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01F1-7421-4D2A-8B6B-96104C97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C5DC-D084-43D9-AD86-481489AB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A4CC-8EE8-44AA-8B02-1C6CA0D5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8E97-D8E4-4BE0-9430-A907A1C8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A665-4201-475F-9AB1-99FEE6C4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9496-8804-443C-A174-C5D76537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A84-E7C2-4A61-9F3B-91B6704B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3B5F-8F5F-48B8-ABFD-90A2D7CE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E2DD-E3BC-4C94-AA9D-F205531B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38D1-9896-438A-8066-1E1C1031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ABF4-83FA-46F5-BDE8-9EB2FA08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581C-A853-459E-A4F6-FB3C84FB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64B-FA58-4362-8E99-DCC59053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FA5-0796-45ED-BE59-62002B51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D6C-5B69-4CAA-99B3-81235123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874-95F6-4E68-B6A8-DDD3DD0E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364-387B-4299-A916-A77351FB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899-86C8-4A88-9FEF-8C0708A7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E4A-66A4-4611-AAD6-FEC8E94E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4CD6-4F5C-4A32-A930-0C8A4D053954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30E1-7D28-4E63-8EA5-67AB46ABEF8A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.wikipedia.org/wiki/Bilde:Maquina_vapor_Watt_ETSIIM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0/Steam_engine_in_action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DEN INDUSTRIELLE REVOLU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FORUTSET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folkningsvekst på 1700- og 18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hov for større mat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jordbruket førte til større avkas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ene i landbruket  nødvendig for   byvek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Iron-forge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stahlofen"/>
          <p:cNvPicPr/>
          <p:nvPr/>
        </p:nvPicPr>
        <p:blipFill>
          <a:blip r:embed="rId1"/>
          <a:stretch/>
        </p:blipFill>
        <p:spPr>
          <a:xfrm>
            <a:off x="1946160" y="0"/>
            <a:ext cx="525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KONSEKVEN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Overbefolkede b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Miljøproble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Dårlige hygieniske forho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arde og lange arbeidsdag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Barnearbeid var vanl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rbeidsmarkedet var sterkt kjønnsde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vinnene tjente omtrent halvparten av det mennene tj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Håndverkere mister sin næ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levekår for folk fl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t leve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lasseforskjel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Økonomisk og materiell kløft mellom de vestlige landene og andre verdensdel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barn_gruver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gruve_barn"/>
          <p:cNvPicPr/>
          <p:nvPr/>
        </p:nvPicPr>
        <p:blipFill>
          <a:blip r:embed="rId1"/>
          <a:stretch/>
        </p:blipFill>
        <p:spPr>
          <a:xfrm>
            <a:off x="495360" y="20520"/>
            <a:ext cx="815328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arbeit-kinder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LudditesSmashingLoomLarge"/>
          <p:cNvPicPr/>
          <p:nvPr/>
        </p:nvPicPr>
        <p:blipFill>
          <a:blip r:embed="rId1"/>
          <a:stretch/>
        </p:blipFill>
        <p:spPr>
          <a:xfrm>
            <a:off x="1547640" y="1135080"/>
            <a:ext cx="6120000" cy="5722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Calibri"/>
              </a:rPr>
              <a:t>MASKINSTORMERE PÅ BEGYNNELSEN AV 1800-TALL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746100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REAKSJ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osialistiske bevege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rav om regulering av arbeidsfor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DEFINISJ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dustrialisering: Gå over fra manuelt arbeid til maskinelt arbe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spinningjenny2a"/>
          <p:cNvPicPr/>
          <p:nvPr/>
        </p:nvPicPr>
        <p:blipFill>
          <a:blip r:embed="rId1"/>
          <a:stretch/>
        </p:blipFill>
        <p:spPr>
          <a:xfrm>
            <a:off x="4716360" y="3357720"/>
            <a:ext cx="3600720" cy="292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180px-Marianne_Stokes_St_Elizabeth_of_Hungary_Spinning_for_the_Poor"/>
          <p:cNvPicPr/>
          <p:nvPr/>
        </p:nvPicPr>
        <p:blipFill>
          <a:blip r:embed="rId2"/>
          <a:stretch/>
        </p:blipFill>
        <p:spPr>
          <a:xfrm>
            <a:off x="1332000" y="2997360"/>
            <a:ext cx="20574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IDEOLOG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Adam Smith (1723 – 1790): Fri konkurranse, Kapitalismens far (1723 – 179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Calibri"/>
              </a:rPr>
              <a:t>Karl Marx (1818 – 1883), kommunism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adam_smith2.jpg"/>
          <p:cNvPicPr/>
          <p:nvPr/>
        </p:nvPicPr>
        <p:blipFill>
          <a:blip r:embed="rId2"/>
          <a:stretch/>
        </p:blipFill>
        <p:spPr>
          <a:xfrm>
            <a:off x="4140360" y="1197000"/>
            <a:ext cx="2792160" cy="363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72km1"/>
          <p:cNvPicPr/>
          <p:nvPr/>
        </p:nvPicPr>
        <p:blipFill>
          <a:blip r:embed="rId3"/>
          <a:stretch/>
        </p:blipFill>
        <p:spPr>
          <a:xfrm>
            <a:off x="6573960" y="3500280"/>
            <a:ext cx="2570040" cy="31417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apitalsystem-2"/>
          <p:cNvPicPr/>
          <p:nvPr/>
        </p:nvPicPr>
        <p:blipFill>
          <a:blip r:embed="rId1"/>
          <a:stretch/>
        </p:blipFill>
        <p:spPr>
          <a:xfrm>
            <a:off x="211284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676520" y="419040"/>
            <a:ext cx="7162560" cy="125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3300"/>
                </a:solidFill>
                <a:latin typeface="Lombardic Narrow"/>
              </a:rPr>
              <a:t>Stereotype of the Factory Owner</a:t>
            </a:r>
            <a:r>
              <a:rPr b="1" i="1" lang="en-US" sz="38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atcat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24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76520" y="365040"/>
            <a:ext cx="716256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“</a:t>
            </a:r>
            <a:r>
              <a:rPr b="1" lang="en-US" sz="4200" spc="-1" strike="noStrike">
                <a:solidFill>
                  <a:srgbClr val="993300"/>
                </a:solidFill>
                <a:latin typeface="Lombardic Narrow"/>
                <a:ea typeface="Arial"/>
              </a:rPr>
              <a:t>Upstairs”/“Downstairs” Lif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apital and Labor"/>
          <p:cNvPicPr/>
          <p:nvPr/>
        </p:nvPicPr>
        <p:blipFill>
          <a:blip r:embed="rId1"/>
          <a:srcRect l="0" t="1365" r="0" b="0"/>
          <a:stretch/>
        </p:blipFill>
        <p:spPr>
          <a:xfrm>
            <a:off x="0" y="47520"/>
            <a:ext cx="9144000" cy="6764400"/>
          </a:xfrm>
          <a:prstGeom prst="rect">
            <a:avLst/>
          </a:prstGeom>
          <a:ln w="9360">
            <a:solidFill>
              <a:srgbClr val="744d2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57200" y="-777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f81bd"/>
                </a:solidFill>
                <a:latin typeface="Calibri"/>
              </a:rPr>
              <a:t>Europa 18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522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029" descr="Europe1815GF"/>
          <p:cNvPicPr/>
          <p:nvPr/>
        </p:nvPicPr>
        <p:blipFill>
          <a:blip r:embed="rId1"/>
          <a:stretch/>
        </p:blipFill>
        <p:spPr>
          <a:xfrm>
            <a:off x="0" y="668160"/>
            <a:ext cx="914400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430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430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evolut"/>
          <p:cNvPicPr/>
          <p:nvPr/>
        </p:nvPicPr>
        <p:blipFill>
          <a:blip r:embed="rId1"/>
          <a:stretch/>
        </p:blipFill>
        <p:spPr>
          <a:xfrm>
            <a:off x="-114480" y="2049480"/>
            <a:ext cx="93729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VIRKNIN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ffektivisering av produksj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Endring av arbeidslivet og familielivet, miljøet og forholdet mellom samfunnsklasse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Bedre kommunikasjon, mulighet for konta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pact2"/>
          <p:cNvPicPr/>
          <p:nvPr/>
        </p:nvPicPr>
        <p:blipFill>
          <a:blip r:embed="rId1"/>
          <a:srcRect l="617" t="0" r="0" b="3033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23880" y="380880"/>
            <a:ext cx="716292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3300"/>
                </a:solidFill>
                <a:latin typeface="Lombardic Narrow"/>
              </a:rPr>
              <a:t>Steam Ship</a:t>
            </a:r>
            <a:r>
              <a:rPr b="1" lang="en-US" sz="3900" spc="-1" strike="noStrike">
                <a:solidFill>
                  <a:srgbClr val="993300"/>
                </a:solidFill>
                <a:latin typeface="Lombardic Narrow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 Unicode MS"/>
              </a:rPr>
              <a:t>T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750: Den industrielle revolusjonen begynner i En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Ca. 1850: Industrien kommer for alvor til No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Calibri"/>
              </a:rPr>
              <a:t>HVORFOR ENGLA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nnskap om tekstilproduksj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Ingen indre krigføring siden 1600-tal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Fristed for emigranter: nye impul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Gode veier og kysttrafik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delen ønsket å investere i indust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Arbeids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Råvar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Marked, indre og y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800" spc="-1" strike="noStrike">
                <a:solidFill>
                  <a:srgbClr val="000000"/>
                </a:solidFill>
                <a:latin typeface="Arial Unicode MS"/>
              </a:rPr>
              <a:t>OPPST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Spinne- og vevemaskin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Dampmaskinen økte vareproduksjon og omset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Calibri"/>
              </a:rPr>
              <a:t>Kullkra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Watts dampmask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973680"/>
            <a:ext cx="306540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28760" y="407664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00"/>
                </a:solidFill>
                <a:latin typeface="Calibri"/>
              </a:rPr>
              <a:t>James Watts dampmaskin, 176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Bilde:Steam engine in ac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692280"/>
            <a:ext cx="8353440" cy="5435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61128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9:07:11Z</dcterms:created>
  <dc:creator>"Håvard Dahle" &lt;havardd@vfk.no&gt;</dc:creator>
  <dc:description/>
  <dc:language>en-US</dc:language>
  <cp:lastModifiedBy>Vilgunn</cp:lastModifiedBy>
  <dcterms:modified xsi:type="dcterms:W3CDTF">2010-04-10T09:34:41Z</dcterms:modified>
  <cp:revision>1</cp:revision>
  <dc:subject/>
  <dc:title>DEN INDUSTRIELLE REVOLUSJON</dc:title>
</cp:coreProperties>
</file>